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D63F-C082-416B-9F2F-3CD819A3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F4C-059E-45FF-833B-3A5A8EC8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6F1-1C2C-4723-8E69-87E67896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B5BB-8742-4C64-9962-1F1079E3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DBB6-7741-4C36-A630-A93E87B6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7919-BBF2-4C06-9175-43412225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3EB4-59B9-44C3-AE1F-19E8C8D3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3494-31DF-4724-BECC-5A9A7303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3627-58AF-44C9-B47E-D29BFCED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B33A9-314A-4911-B068-F334BD8D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F90D-8DBE-4507-AAC0-6B31B3D8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AD1-AC89-46EA-970A-60BE4EA9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9ABD-15B5-4DDF-A615-9787677A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1BD3-6306-4B0D-887E-1B763D02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41E7-798E-4890-BEDC-BB180570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348E-11F1-4423-B9A8-267FBC3A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B766-A569-405D-9977-37E8562C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E82A-9006-4CFD-846C-2C1FD682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3AC5-5406-49FD-93A5-2F0E94EF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FEAA-852F-43EE-8A0F-DDC14FBF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6F74-4492-45B6-8508-A5205C25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6767-F88A-40E0-8318-968E9984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BCD8-DEC1-4220-B31C-852A5A6F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2F4-A852-4250-A08D-7613C312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49AC-1C5D-452C-BFF8-978C3224FEF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EBC3-972B-4288-8003-38B8BADC5E8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офессиональный конкурс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Лучший педагог ДОУ»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к средство развития педагогического мастерств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7760" y="41148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веева М.Г., педагог-психолог ГМЦ г.Каз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нова Н.Г., методист по дошкольному образованию ИМО ГМЦ Советского района, старший воспитатель МАОУ «Прогимназия № 29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520" y="5331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это интерактивная форма обучения и обмена опытом, объединяющая формат тренинга и конференц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–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(от английского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clas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лучший в какой-либо области +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las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–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современная форма проведения обучающего тренинга-семинара для отработки практических навыков по различным методикам и технологиям с целью повышения профессионального уровня и обмена передовым опытом участников, расширения кругозора и приобщения к новейшим областям зна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539640" y="620640"/>
            <a:ext cx="842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Рекомендации по подготовке мастер-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 Выберите ведущую педагогическую идею, которую вы хотите проиллюстрировать на мастер-классе и свяжите ее с те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Определите цели и задачи в связи с темой, которые вы хотите достигнуть на мастер-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Придумайте проблему, вопрос, парадокс, вводящие в вашу тему занятия и представляющие интерес для «воспитан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Подберите технические средства (минимально) и различные формы работы к данным целям и задач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Придумайте неожиданные предметы или открытия в обычном удивительного, которые раскрывают ведущую педагогическую иде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. Включите фантазию, придумайте интересный замысел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7. Составьте подробный план за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8. Тщательно проверьте технику и работу микрофонов перед началом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9. Расставьте стулья, столы и доску так, как вам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0. Когда все готово — дайте команду организаторам, что можно начи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684360" y="476280"/>
            <a:ext cx="77752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Рекомендации по проведению мастер-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. Старайтесь говорить не громко и не тихо, но внятно и с разными интонациями (не монотонн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. Сами говорите только в микрофон и следите, чтобы ученики тоже давали ответы в микрофон, чтобы слышали все в зале. Контролируйте силу своего голоса и голоса учеников по звуку в колон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3. Нельзя весь мастер-класс читать лекц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4. Не превращайте мастер-класс только в игру. Одна форма работы на мастер-классе неприемл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5. Проявляйте специфику предмета (иногда к концу урока зрителям и жюри не понятен предмет преподава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6. Это урок не для профессионалов данного направления. Задача — прояснить сложное, затронуть общечеловеческие ценности, проблемы, которые волнуют все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7. Используйте новые информационные технологии только если они органично входят в вашу идею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8. Здоровьесбережение должно стать не надуманным, а органичным элементом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9. Не добивайтесь долго того ответа, который вам нужен. А если получили его раньше — не продолжайте двигаться в эту сторо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0. Старайтесь показывать не только себя, но и уче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1. Не бойтесь задавать трудные вопро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2. Проведите в конце краткий анализ занятия с «ученикам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838080" y="990720"/>
            <a:ext cx="73580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крытый микроф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обственной позиции по пробл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су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 и эруд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84360" y="476280"/>
            <a:ext cx="7848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- это я. Такого, как я, никогда не было и не будет. Есть люди, чем-то похожие на меня, но в точности такого, как я, нет. Мне принадлежит мое тело и все, что оно делает. Мне принадлежит мой голос: тихий или громкий, нежный или резкий. Мне принадлежат мои глаза и все образы, которые они могут увидеть. Это все принадлежит мне, потому что я один выбрал это, это истинно. Это достаточное основание для того, чтобы принять и полюбить себя, заинтересоваться собой. Теперь, когда я принял себя, я могу набраться терпения и мужества, чтобы узнать себя лучше и глубже. Конечно, во мне есть нечто, что вызывает мое недоумение. Но теперь, когда я не боюсь посмотреть в себя, я могу сделать так, чтобы все во мне способствовало достижению моих целей, чтобы полезного и доброго во мне становилось больше и больше. Я могу видеть, слышать, думать, действовать. Значит, во мне есть все, чтобы жить. Чтобы вносить гармонию в мир людей и вещей вокруг меня. Я – это я, и Я – это здоров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85880" y="428760"/>
            <a:ext cx="7858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«Презентация опыта работы, методический семина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Регламент – 15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актическая значимость и новизна представленн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бщая  и профессиональная эруд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ультура публичного высту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ние взаимодействовать с ауд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533520" y="533520"/>
            <a:ext cx="821520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е мероприятие с деть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-30 минут (от возрастной группы воспитанни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заинтересовать группу детей содержанием и видом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рганизации и выбора содержания открытого просмо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удерживать интерес детей в течение меро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отрудничества детей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сть стиля взаимодействия с деть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активности и инициативности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1600" y="320400"/>
            <a:ext cx="82152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Garamond"/>
              </a:rPr>
              <a:t>Различия процесса обучения в детском саду, организованного в виде учебной деятельности и через организацию детских видов деятельности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990720"/>
          <a:ext cx="8763120" cy="518796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виде учебной деятельности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организацию детских видов деятельности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ебенок - объект формирующих педагогических воз­действий взрослого человека. Взрослый - главный. Он руководит и управляет ребенко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ебенок и взрослый - оба субъекты взаимодействия. Они равны по значимости. Каждый в равной степени це­нен. Хотя взрослый, конечно, и старше, и опытне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ктивность взрослого выше, чем активность ребенка, в том числе и речевая (взрослый "много" говорит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ктивность ребенка по крайней мере не меньше, чем активность взросло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я деятельность - учебная. Главный результат учебной деятельности - решение какой-либо учебной задачи, поставленной перед детьми взрослым. Цель - знания, умения и навыки детей. Актив­ность детей нужна для достижения этой цел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я деятельность - это так называемые детские виды деятельности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Ребенок должен быть активен. Но при этом важно, что­бы его активность не была беспорядочной, хаотичной, а оформлялась во вполне определенные, присущие до­школьнику виды деятельности... общение, игра, пред­метная деятельность, конструирование, изобразитель­ная деятельность, элементарная трудовая деятельность"¹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Сам процесс их выполнения и итоги прежде всего ра­дуют самих детей и окружающих взрослых, не имея при этом каких-либо жестких норм и правил"²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- подлинная активность (деятельность) детей, а освоение знаний, умений и навыков - побочный эффект этой активност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380880"/>
          <a:ext cx="8229600" cy="5273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сновная модель организации образовательного процесса - учеб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сновная модель организации образовательного процесса - совместная деятельность взрослого и реб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сновная форма работы с детьми - заня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сновные формы работы с детьми - рассматривание, наблюдение, беседы, разговоры, экспериментирование и исследования, коллекционирование, чтение, реализация проектов, мастерская и т. д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именяются в основном так называемые пря­мые методы обучения (при частичном использовании опосредованн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именяются в основном так называемые опосредованные методы обучения (при частичном использовании прям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отивы обучения на занятии, как правило, не связаны с интересом детей к самой учебной деятельности. "Удерживает" детей на занятии авторитет взрослого. Именно поэтому педагогам зачастую приходится "украшать" занятие наглядностью, игровыми приемами, персонажами, чтобы облечь учебный процесс в привлекательную для дошкольников форму. Но ведь "подлинная цель взрослого - вовсе не поиграть, а использовать игрушку для мотивации освоения непривлекательных для детей предметных знаний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отивы обучения, осуществляемого как организация детских видов деятельности, связаны в первую очередь с интересом детей к этим видам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57200" y="380880"/>
          <a:ext cx="8229600" cy="5211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6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Все дети обязательно должны присутствовать на заняти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Допускаются так называемые свободные "вход" и "вы­ход" детей, что вовсе не предполагает провозглашения анархии в детском саду. Уважая ребенка, его состояние, настроение, предпочтения и интересы, взрослый обязан предоставить ему возможность выбора - участвовать или не участвовать вместе с другими детьми в совместном деле, но при этом вправе потребовать такого же уважения и к участникам этого совместного дел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Образовательный процесс в значительной степени регламентирован. Главное для взрослого - двигаться по заранее намеченному плану, программе. Педагог часто опирается на подготовленный конспект занятия, в ко­тором расписаны реплики и вопросы взрослого, ответы дете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Образовательный процесс предполагает внесение изменений (коррективов) в планы, программы с учетом потребностей и интересов детей. Конспекты могут ис­пользоваться частично, для заимствования фактического материала (например, интересных сведений о композиторах, писателях, художниках и их произведениях), отдельных методов и приемов и др., но не как "готовый образец" образовательного процесс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838080" y="500040"/>
            <a:ext cx="76201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шение психолого-педагогических ситуац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формулировать пробл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возрастных и индивидуальных особенностей участников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аргументировать предлагаемые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и необходимости адекватно изменять стратегию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571680" y="500040"/>
            <a:ext cx="74293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стер-клас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ламент 20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знач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ауд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206800" y="3139920"/>
            <a:ext cx="6602400" cy="322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066320"/>
            <a:ext cx="8229600" cy="11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00440" indent="-802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АКОЕ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100440" indent="-802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ЗАРУБА Артур Викторович"/>
          <p:cNvPicPr/>
          <p:nvPr/>
        </p:nvPicPr>
        <p:blipFill>
          <a:blip r:embed="rId2"/>
          <a:stretch/>
        </p:blipFill>
        <p:spPr>
          <a:xfrm>
            <a:off x="457200" y="2819520"/>
            <a:ext cx="22860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лонова Светлана Ринатовна</cp:lastModifiedBy>
  <dcterms:modified xsi:type="dcterms:W3CDTF">2012-12-27T06:08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